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media/applause.wav" ContentType="audio/x-wav"/>
  <Override PartName="/ppt/media/ricochet.wav" ContentType="audio/x-wav"/>
  <Override PartName="/ppt/media/cashreg.wav" ContentType="audio/x-wav"/>
  <Override PartName="/ppt/media/driveby.wav" ContentType="audio/x-wav"/>
  <Override PartName="/ppt/media/image1.wmf" ContentType="image/x-wmf"/>
  <Override PartName="/ppt/media/carbrake.wav" ContentType="audio/x-wav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1941-0586-4FCA-ACE2-DFEC73A4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EDE-A028-428A-AE3D-B2DCB164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93F-3955-48A9-A042-97C67A1E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D876-64D9-4908-93E4-7AAA3457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41F-4C8E-4E0A-BA07-8847C447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718-E421-4B30-8F5D-BCC103F6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2CD-9D07-41A9-BAD2-430A690E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5319-0ED6-466C-A767-F5186372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39D-1811-42C3-ABB0-DDB960DD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44CA-3BF9-401F-97B6-E1CF0597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0E7-9ED6-4924-B889-A21DD3DD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867-4FBA-4A37-B79E-EE5034F7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3B5B-8E75-4CBB-B5A2-043122EF9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28600" y="1676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Eras Ultra ITC"/>
              </a:rPr>
              <a:t>Helping Verb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228600" y="7632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Eras Medium ITC"/>
              </a:rPr>
              <a:t>Definition</a:t>
            </a:r>
            <a:r>
              <a:rPr b="1" lang="en-US" sz="6000" spc="-1" strike="noStrike">
                <a:solidFill>
                  <a:srgbClr val="ffffff"/>
                </a:solidFill>
                <a:latin typeface="Eras Medium ITC"/>
              </a:rPr>
              <a:t>:  helps the main verb express action or a state of being. </a:t>
            </a:r>
            <a:r>
              <a:rPr b="1" lang="en-US" sz="4800" spc="-1" strike="noStrike">
                <a:solidFill>
                  <a:srgbClr val="ff8d1b"/>
                </a:solidFill>
                <a:latin typeface="Eras Medium ITC"/>
              </a:rPr>
              <a:t>*labeled or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2280" y="3630600"/>
            <a:ext cx="8839440" cy="312444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Eras Medium ITC"/>
              </a:rPr>
              <a:t>Examples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Eras Ultra IT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Eras Ultra ITC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Eras Ultra ITC"/>
              </a:rPr>
              <a:t>- can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 speak                  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Eras Ultra ITC"/>
              </a:rPr>
              <a:t>- will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 learn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Eras Ultra ITC"/>
              </a:rPr>
              <a:t>- should  have been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 f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28600" y="7632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Eras Medium ITC"/>
              </a:rPr>
              <a:t>Together, the main verb and its helping verb or verbs are called a </a:t>
            </a:r>
            <a:r>
              <a:rPr b="1" lang="en-US" sz="5400" spc="-1" strike="noStrike">
                <a:solidFill>
                  <a:srgbClr val="ffffff"/>
                </a:solidFill>
                <a:latin typeface="Eras Ultra ITC"/>
              </a:rPr>
              <a:t>verb phrase</a:t>
            </a:r>
            <a:r>
              <a:rPr b="1" lang="en-US" sz="5400" spc="-1" strike="noStrike">
                <a:solidFill>
                  <a:srgbClr val="ffffff"/>
                </a:solidFill>
                <a:latin typeface="Eras Medium ITC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76320" y="3505320"/>
            <a:ext cx="8991360" cy="383724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Eras Medium ITC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Eras Medium ITC"/>
              </a:rPr>
              <a:t>Examples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ras Medium IT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Eras Medium ITC"/>
              </a:rPr>
              <a:t>- Many students</a:t>
            </a:r>
            <a:r>
              <a:rPr b="1" lang="en-US" sz="4000" spc="-1" strike="noStrike">
                <a:solidFill>
                  <a:srgbClr val="ffffff"/>
                </a:solidFill>
                <a:latin typeface="Eras Ultra ITC"/>
              </a:rPr>
              <a:t> can speak </a:t>
            </a:r>
            <a:r>
              <a:rPr b="1" lang="en-US" sz="4000" spc="-1" strike="noStrike">
                <a:solidFill>
                  <a:srgbClr val="ffffff"/>
                </a:solidFill>
                <a:latin typeface="Eras Medium ITC"/>
              </a:rPr>
              <a:t>Spanis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ras Medium IT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Eras Medium ITC"/>
              </a:rPr>
              <a:t>- I</a:t>
            </a:r>
            <a:r>
              <a:rPr b="1" lang="en-US" sz="4000" spc="-1" strike="noStrike">
                <a:solidFill>
                  <a:srgbClr val="ffffff"/>
                </a:solidFill>
                <a:latin typeface="Eras Ultra ITC"/>
              </a:rPr>
              <a:t> will be learning </a:t>
            </a:r>
            <a:r>
              <a:rPr b="1" lang="en-US" sz="4000" spc="-1" strike="noStrike">
                <a:solidFill>
                  <a:srgbClr val="ffffff"/>
                </a:solidFill>
                <a:latin typeface="Eras Medium ITC"/>
              </a:rPr>
              <a:t>about helping </a:t>
            </a:r>
            <a:r>
              <a:rPr b="1" lang="en-US" sz="40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Eras Medium ITC"/>
              </a:rPr>
              <a:t>verbs to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4"/>
          <p:cNvGraphicFramePr/>
          <p:nvPr/>
        </p:nvGraphicFramePr>
        <p:xfrm>
          <a:off x="228600" y="609480"/>
          <a:ext cx="87631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8763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28600" y="15228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Eras Medium ITC"/>
              </a:rPr>
              <a:t>Some words can be used as both helping verbs and main verb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76320" y="3048120"/>
            <a:ext cx="8991360" cy="360612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Eras Medium ITC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Eras Medium ITC"/>
              </a:rPr>
              <a:t>Helping Verb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Eras Medium ITC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- I </a:t>
            </a:r>
            <a:r>
              <a:rPr b="0" lang="en-US" sz="4000" spc="-1" strike="noStrike">
                <a:solidFill>
                  <a:srgbClr val="ffffff"/>
                </a:solidFill>
                <a:latin typeface="Eras Ultra ITC"/>
              </a:rPr>
              <a:t>do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 enjoy the mov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Eras Medium ITC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Eras Medium ITC"/>
              </a:rPr>
              <a:t>Main Verb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Eras Medium ITC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- I will </a:t>
            </a:r>
            <a:r>
              <a:rPr b="0" lang="en-US" sz="4000" spc="-1" strike="noStrike">
                <a:solidFill>
                  <a:srgbClr val="ffffff"/>
                </a:solidFill>
                <a:latin typeface="Eras Ultra ITC"/>
              </a:rPr>
              <a:t>do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 the dish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15228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Eras Medium ITC"/>
              </a:rPr>
              <a:t>Sometimes a verb phrase is interrupted by another part of speec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76320" y="2819520"/>
            <a:ext cx="8991360" cy="383724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Eras Medium ITC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Eras Medium ITC"/>
              </a:rPr>
              <a:t>Examples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Eras Medium ITC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- Students should not forget their 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homewo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- Did you call your friends this 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weeke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28600" y="33336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Eras Medium ITC"/>
              </a:rPr>
              <a:t>The word </a:t>
            </a:r>
            <a:r>
              <a:rPr b="1" i="1" lang="en-US" sz="4800" spc="-1" strike="noStrike">
                <a:solidFill>
                  <a:srgbClr val="ffffff"/>
                </a:solidFill>
                <a:latin typeface="Eras Ultra ITC"/>
              </a:rPr>
              <a:t>NOT</a:t>
            </a:r>
            <a:r>
              <a:rPr b="1" lang="en-US" sz="4800" spc="-1" strike="noStrike">
                <a:solidFill>
                  <a:srgbClr val="ffffff"/>
                </a:solidFill>
                <a:latin typeface="Eras Medium ITC"/>
              </a:rPr>
              <a:t> and its contraction, -</a:t>
            </a:r>
            <a:r>
              <a:rPr b="1" i="1" lang="en-US" sz="4800" spc="-1" strike="noStrike">
                <a:solidFill>
                  <a:srgbClr val="ffffff"/>
                </a:solidFill>
                <a:latin typeface="Eras Ultra ITC"/>
              </a:rPr>
              <a:t>n’t</a:t>
            </a:r>
            <a:r>
              <a:rPr b="1" lang="en-US" sz="4800" spc="-1" strike="noStrike">
                <a:solidFill>
                  <a:srgbClr val="ffffff"/>
                </a:solidFill>
                <a:latin typeface="Eras Medium ITC"/>
              </a:rPr>
              <a:t>, are adverbs telling </a:t>
            </a:r>
            <a:r>
              <a:rPr b="1" i="1" lang="en-US" sz="4800" spc="-1" strike="noStrike">
                <a:solidFill>
                  <a:srgbClr val="ffffff"/>
                </a:solidFill>
                <a:latin typeface="Eras Ultra ITC"/>
              </a:rPr>
              <a:t>to what extent</a:t>
            </a:r>
            <a:r>
              <a:rPr b="1" lang="en-US" sz="4800" spc="-1" strike="noStrike">
                <a:solidFill>
                  <a:srgbClr val="ffffff"/>
                </a:solidFill>
                <a:latin typeface="Eras Medium ITC"/>
              </a:rPr>
              <a:t>; neither is part of a verb phr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6320" y="4038480"/>
            <a:ext cx="8915400" cy="23007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Eras Medium ITC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Eras Medium ITC"/>
              </a:rPr>
              <a:t>Example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Eras Medium ITC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- Students should not forget their 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homewo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Helping Verbs are Oran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derline helping verbs orange and write “H” above each helping verb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j0212957"/>
          <p:cNvPicPr/>
          <p:nvPr/>
        </p:nvPicPr>
        <p:blipFill>
          <a:blip r:embed="rId1"/>
          <a:stretch/>
        </p:blipFill>
        <p:spPr>
          <a:xfrm>
            <a:off x="762120" y="3657600"/>
            <a:ext cx="7772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0"/>
            <a:ext cx="86868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Eras Ultra ITC"/>
              </a:rPr>
              <a:t>Helping Verbs Song </a:t>
            </a:r>
            <a:r>
              <a:rPr b="1" lang="en-US" sz="4400" spc="-1" strike="noStrike">
                <a:solidFill>
                  <a:srgbClr val="ffffff"/>
                </a:solidFill>
                <a:latin typeface="Eras Medium ITC"/>
              </a:rPr>
              <a:t>(sung to the tune of “Jingle Bells”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2438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0" y="175248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Helping verbs, helping verbs,                  There are twenty-three:                              AM, IS, ARE, WAS and WERE                BEING, BEEN, and BE….oh!                    HAVE, HAS, HAD, DO, DOES, DID,      SHALL, WILL, SHOULD, and WOULD.    There are five more helping verbs:         MAY, MIGHT, MUST, CAN, COU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01:56:19Z</dcterms:created>
  <dc:creator>DAsh</dc:creator>
  <dc:description/>
  <dc:language>en-US</dc:language>
  <cp:lastModifiedBy>tanthony</cp:lastModifiedBy>
  <dcterms:modified xsi:type="dcterms:W3CDTF">2013-10-01T03:18:57Z</dcterms:modified>
  <cp:revision>5</cp:revision>
  <dc:subject/>
  <dc:title>PowerPoint Presentation</dc:title>
</cp:coreProperties>
</file>